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dt" idx="9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ftr" idx="95"/>
          </p:nvPr>
        </p:nvSpPr>
        <p:spPr>
          <a:xfrm>
            <a:off x="-36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 type="sldNum" idx="96"/>
          </p:nvPr>
        </p:nvSpPr>
        <p:spPr>
          <a:xfrm>
            <a:off x="388440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8E3-2571-4B9F-BAE4-CEC8ECA27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Номер слайда 3"/>
          <p:cNvSpPr/>
          <p:nvPr/>
        </p:nvSpPr>
        <p:spPr>
          <a:xfrm>
            <a:off x="3884760" y="944712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0EB-DFE5-4D8A-B660-811E61E6B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40C-D907-4EF1-9495-BD15C59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1E0-2621-4FEA-9BF7-A71D157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130E1-8BDB-45AE-A35E-1D2DAFF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A295E-10AD-4341-BB00-8F7F1257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6EEF-4326-4F30-BBD2-1D183884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93908-92BF-4732-A08C-9242238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88AF2-D0FB-4ECC-A1D7-BF8BF60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A5C56-E705-436A-B6C5-9B7F2AB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65568-6845-4ED4-9A7C-65D2021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C7ED-59C7-4645-8E78-7CAEE9D1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FA829-E892-48B5-99BE-76495FF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F3309-DDFC-44F6-9175-8D26C38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161-4D06-48A5-907B-09ED9AF9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D587-F820-4343-A598-FEFBB0D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DEAA8-EB84-470F-B452-91E2878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F885-DEC7-41EF-B3F2-FAAD4EA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8C8B3-767D-48F2-BB0F-5D76E876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716B8-4F98-4E26-9C7F-CBC2168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E0658-EE46-4957-99D6-766B64AF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ADD5C-6A84-4C09-B621-E34A290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238B9-54A0-4E0F-9839-547DDC9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40A84-F67D-4234-AB0A-4A1358E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9C351-7771-43D1-93BA-883AB624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B6A-CCA5-4C47-8F89-E3DEF6D4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0F786-63FC-47FF-8897-06343548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845A-24F5-434D-A206-0DD77DE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940A-D34B-465A-B58A-02672602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2CF63-DFDD-46CB-B337-3E9E087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ECECA-BD3C-429A-9536-761BCFB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F49EF-72B5-4F04-AB52-5A1AEB2C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8E6A3-0AE5-4593-A554-0A1A0E9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3494C-A40E-48C2-BB87-C5FBD39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FBEC7-4296-4103-8BAA-BFED889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DAA8-B15A-48FD-91EF-9AE305C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2A1-03FA-4395-B2E7-51F89DD5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5FF1-0954-4EBA-8EED-E45E0763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823F3-388D-42E8-9990-ACBFD896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10991-0FBB-47D3-A1CD-CCEB260D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D18D-42A2-4D5A-A43F-7346B51E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3FBBC-9435-4EC2-9788-68C51D69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8A2BB-243B-4F7F-9D04-2A1528B3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2B35D-ECB1-41AA-9A4C-EAF8DA6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207ED-24C2-41BA-A204-803170C7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828AC-DBB2-44F8-95BC-D7C0A5B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FB316-3697-4094-80BC-87768056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5391-5B26-4D57-B841-25EBF70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97A5-2036-47FD-9FF0-CF5B762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0518E-0ECD-4C91-9365-4611360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71876-7AC9-4C42-B26D-81E3C477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35431-506B-48C6-8020-622EE36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37D60-7255-4F08-92E5-E3A39BEC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E3054-8D77-43F7-A8E6-E196A6A8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54D8E-431E-49D5-AEE1-E5FBEC6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472CF-E4CC-48C5-A957-0FB36FB9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A61B0-18F2-4BC4-8B35-9379E9A8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267B9-66B3-40E8-B4B1-9F260A9B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099-64A2-434D-8CD0-76BD426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D307C-3986-43C0-B93A-095788E7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5CA94-387B-49C2-855D-A285739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FF974-53C9-415B-BC60-42BCC20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4B364-A071-4D37-AF8C-E4C7747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D2F2E-FED7-4472-9A94-BC5C8F9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A4C9C-F270-443F-81D1-6D86068D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4602D-91C0-4439-A590-299FE098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1E9F0-2654-41D0-B5E6-B5C9230B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B3666-D557-44E8-A3FE-EFADC4E2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3F657-681D-4188-926E-D571C753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7F8-228A-418F-84D7-9FA5B9E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ECFD5-F95F-44B6-A81D-7DB948B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3EB08-8B43-47B0-B19C-DCF4F5D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287CC-E3B7-436F-B05C-DB854B7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FAA0F-3317-4B81-9C62-7A61957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E3026-2A2D-44D2-8097-A2455F7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3F9E2-22EB-43CC-8932-7B79313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57AE6-4040-4A7A-A5FA-714183D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55039-CBAB-437C-B557-9C5EFFE5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7A031-97BA-4A0E-BD29-98A974F3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8697F-34BA-4319-8303-A23DAE85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0F7B-5DD8-470D-A437-A65018E5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32F11-B9D5-4870-8077-CFCBCB9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41BBE-F268-43D4-966C-A6E09BB3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9D4D1-ABF5-4508-9A00-61EE17B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8FF3F-CAA6-4AB1-A4C2-0D1A80C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6B5C5-F6EE-4EC1-B708-B4832C59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B7C59-5D7F-4FAA-BDC8-C5DEC5E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985C2-DA36-4571-97D6-C69DCBD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6B583-0341-46C9-8EAD-91790C0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14AF5-0547-4A84-8FEC-46276BAD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EB8E3-10C3-4195-908B-FD6B24C3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95AD-839D-46CF-B234-936E882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28361-F303-4C50-91D9-F1BB2B4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4F08E-638A-4DF8-8EFA-28318401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C8983-4E56-49B9-A256-2A399EE9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7DF31-1D5D-4282-A063-93976F4D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0CC2E-6FA8-4CB3-83A8-ED8B30D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8DE47-A93B-4D9F-B638-60AD84F2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8CEAE-AB41-4A48-86F3-3F648699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B56B0-487C-4E59-BC57-FF103A4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78B77-7181-44A9-9EDE-8F3E9C4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8978E-10FB-4FAD-934C-5F0A9CC1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40C-6690-4A41-BC6C-7DAF3F1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E28B6-E195-47B1-A1F9-899012B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586C5-9B12-4832-B77A-98138686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A1D48-0952-4E29-A536-3E36FE4E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A2FE1-6198-4295-B1B1-210AE1AF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5DFEF-0233-4888-BF92-49605DD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C2502-C0BF-403B-8C86-26C11DA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248C6-337A-4936-A330-7A91C226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D8553-3E08-4C2E-90B7-DB86A41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32FCB-9A3C-4346-BFC3-7C1BFB5E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C9F17-FD13-45F2-9CAB-A6C5D77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6E6-85EB-4646-801B-F446596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B731-034B-4FDE-9ECB-24EC7AC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1F931-1650-415D-A54D-2276315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B7E05-669F-4DB7-87CC-F71D11F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FC771-4B07-4DB4-9292-30B3AE0D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BE2E4-52BF-408A-9CD0-DD631E00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383C8-0077-46E7-B854-F5D0A906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3BCA3-73DE-4EC9-A90D-190106A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E1252-D695-4E0D-AA5B-7676ADD1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BE067-D8C2-4B0A-8EC9-8A340F0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28FC3-BBB5-40C7-993E-2C1FECF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9D9A1-68CB-42F5-9D09-0E4670FB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05A-3499-470C-8456-40C947D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FE294-B219-4018-B14E-07FF443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31581-933A-4300-A458-298BB93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30BFA-2581-48E7-A6B9-0A85F2A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E8152-5D39-4968-BAB1-53404CF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9A09A-12FD-4D05-AA6F-2A0F84DD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82128-0767-493E-9552-C8C73FEF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FEDB4-0572-4271-8415-0AC8D19F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596C2-81F4-46CB-BF32-BC350356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60F03-8D2F-4409-9817-C82920B9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7F144-07BF-4A80-A76D-24A89F6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DC24-78B3-49E4-8DCF-26931D7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EE14A-CE92-4202-B029-220D03F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E3B79-CB21-43EC-80BA-FEC3721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94DC2-529E-4B3E-81BB-207FE5D9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B2EC3-A8B4-492F-9AAC-C79F32C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98E32-C11C-49E9-956D-1016C35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CC69C-3EFD-46C9-A268-D78ED49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FD2BF-9866-44DD-A1B9-D8173EA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2D628-75E1-45E8-8C95-588EA79B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5A204-CFEA-4665-B323-D841D054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DE406-222B-40E2-B9C1-F007FDAF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C7D8-BED9-4DDD-9101-F86E4149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EF438-9C4E-436D-965F-30779B9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32BA7-9787-4D7A-B5AD-8BA0D5D0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FD51D-E3F5-4563-8973-55905D6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A4D75-A1F7-4C71-A850-0F0E60A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D483E-59C7-48D7-8281-19C54450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36BCD-7341-4452-99E0-7351371B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00848-547A-42F1-8352-26D4063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294E8-D27C-442A-BBE2-1CD785B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99DB9-DFC5-4671-BEFF-D08F9338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4DB65-3BB0-426E-9102-271F8CFD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19E-2646-4D2F-8FF4-11DEA123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B79D2-7E1D-434A-9463-2E4C7AFC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65882-2D6E-47C7-ADDF-72575846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AB8F8-82B2-453B-A41B-266165A8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563BA-1D4A-4C99-8D50-356F5224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84FD9-2226-4472-8B4C-28DEB20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80A5A-8A50-4447-9302-1F0B86A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40F03-22CB-4211-900D-FBE0C59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A8CC4-C705-4604-9F0C-170CE67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6F87F-2C4A-425A-9D73-AC2F77E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B4DFD-32E8-45F7-AC90-9EB25DB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21A2-151C-4EE5-BE64-FDB127D0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4844B-A0DA-4845-B67B-EE3A2C7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5CE68-5AE0-4291-A001-999313D8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0186A-8B91-4DE7-BDD5-8FE5345B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12827-7D35-4710-AC56-83F38D3C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787CA-5488-495B-93E4-3A80E0F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7430E-93BA-45A6-9D00-2E0DD302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D9067-686C-4E62-8B4D-0571CBF5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23057-638D-44AE-9802-70B2231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44B433-FA7B-4D79-AA00-E5F0A3C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97C3A-F139-4E86-A3D6-A001027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1416-5262-40E3-83FE-AB1032D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B9D189-90F1-4D13-A243-72340CC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439CE0-CBFD-441D-BB78-408E8C8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A137E-6F8E-4252-8AB3-2C7BF2D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C5C4F-4B8F-41C1-B17B-32D537CA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25EF0-EAFD-4CC2-8156-5658321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212AF-3311-4F05-8913-437EDE83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1EFB4-5728-4DF1-9FD4-BAF61C4A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EFFB0-1349-4900-8229-0A58B9B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5A047-3A9A-44D6-8D8B-2FC9AA0D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C0CFB-BC2B-44EA-9AAD-7CA220A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4699-1BCF-4D40-9577-355DF986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C32069-FB6D-4249-8651-9FBED8C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E1A7D-C002-4D56-9326-396F975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6409D2-3B21-49A8-9DA8-15F9661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6A053-7880-4FF9-AEF4-84020D22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149CF-0996-4B21-9301-9C19EB4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4C448-3356-431A-B3F2-C0202FF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499EA6-FACC-45F5-8D8D-EBF65813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044DE1-442F-43EE-BC42-84A6F403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A3AA34-00BC-4951-9478-907DF836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8D1ED-EA20-4E09-9E90-1370163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163A-3B67-4B36-AA7D-30C931FB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7C7BB-CDA1-436E-996B-3011BA0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A0B248-79BE-455E-9DDF-0298C72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275004-56BC-4F5D-94ED-C623CAD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D345A-4680-4651-906E-A8921F8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A80E1-DB5E-41E1-B1D0-7096774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A86101-C96C-46BD-B961-789C890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9E556-8056-4072-807A-DD32C7D9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1B4F7-24FE-4351-9C36-DF84375F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F96F8E-07B8-4C11-B26B-BD5B0278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539A01-FE33-4E32-8195-5E9A494E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71BC-FC4F-4A6F-BA72-5D36BED0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AFE5B2-6468-472C-BCB1-DD81F0C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28C937-BD54-4605-8406-9BA1AAB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08BD36-FAEA-4E6F-903E-7B2ABCF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61DFB6-D828-4DF9-A415-3756EE1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98B97-EF60-42DC-9A10-621D385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6D7527-08F1-4440-A619-17C4F3F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42302-FE67-46B1-A9EF-9859338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2872B1-21BA-49F1-B534-1F10B75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BEE51E-6068-46AA-8B91-5B6F290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049D0A-600D-4E11-859C-41D855C9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F5F-D52F-4E9C-ACEC-EE699E8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FF73-6BBA-42AC-B216-7F1CEE7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245435-D549-444D-9740-FE4F06A5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5FA556-3389-4E12-A2B2-E2D3734F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B725F4-1017-4A96-B0DA-2DC5B90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D0B4EB-2F99-4A01-AE73-32607AC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26BD54-CD08-4CAA-83C6-2C7BFA5B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84E189-D97B-4116-89AF-E332770E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556B69-49E5-449A-A047-B4C7989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DAD056-8E35-429B-99C0-40EB3BE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A95733-EF3A-4908-BF00-929A788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A52625-65E2-44FC-BBDE-441A341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CD3B-D855-4E82-9A8A-47BB390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391BCE-7C8F-4A6A-82E8-992DA20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0C7AF-D3F0-4A86-90AB-562DDFD1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4B5B0E-7BE3-4A08-8F4E-1DE07C43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7F8681-D10E-47D6-BCB4-A664A7C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D33C01-A334-41CA-8180-36202745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6174FD-03B7-46E4-91E2-A1551BE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EE5747-A3E5-43E0-B669-5D40AE4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62DAD-24C7-4579-997D-8314EB37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EC48AB-4154-42EB-99F3-EDB4369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F5D64C-5130-4528-9FB5-BD00CCE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0C6B-647D-44FC-B758-BFD8F75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F0A05F-A4EC-4823-BA28-7F6EBB0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24D22D-4C68-446C-9046-88DC4E4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A49A1B-AFF2-49DA-8551-21380311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7FCA08-27E5-4E86-BA0B-F6556C50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A76D89-0840-451D-84BE-B75DE80A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47A274-2D14-49C9-BA44-3BE22692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0B477A-2152-448E-B294-B0E2F1A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E18E74-367D-4F52-8C87-21B511F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6CB094-EE33-4DC0-89EE-F9D3479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EA3AF2-514F-4682-99E3-69A0D00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87E4-2B60-4665-B960-BAD9244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635D6A-7FB7-4AD7-9057-5CC88EC5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A39A51-F373-4EE7-97D5-2A26AA0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32C855-08BD-458C-BBFA-01B3ECE1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961DED-75FB-4697-B1CF-8EFB9A9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120007-EC28-44DB-B70B-979E0E47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B81EF4-FF67-48CE-9D56-7949E7CC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932C49-64F1-41D3-8DED-4BEE8C41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42999B-0E76-45FE-B7F1-BF19F37E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19B896-2EC1-4DA5-AC1F-A59459E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89A7F3-DD80-461C-BDA8-EAEBC24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D693-CFDD-4734-A918-FF70064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C81E79-D885-440A-8934-9AC6394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134E50-9112-4451-95F6-322DD4D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F48868-22DD-437F-9520-9E7D5130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835248-B0FE-42D6-AC45-539C61E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B2181A-D3D9-4733-B838-D75F97BA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8CB6EB-7E05-4AF5-A055-221EA54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67DC79-AFD5-4287-B852-FF18A06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16D42C-1F18-46FC-BA14-DAFE5784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18F155-EFBC-4B26-A534-64806513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00E87E-2331-43B7-ACCF-81A58F57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7E40-3C09-4ABB-B661-6470FC37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3F8B86-E790-4CB0-A18E-DA82B88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171B6B-B76A-4DC6-9D23-FAD29C1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C75D49-EEA0-4561-9767-7F58E3E2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E91C80-4AAC-4489-9643-3F1975B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0B92CC-183B-45C3-9A5D-E4B5A059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0A908A-68A8-493C-87DC-DC6DAE0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E4335A-A08A-4C4A-8172-1B8479B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CA1F78-0BFC-491C-907A-F918985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11C31D-265B-4702-B2CE-AAA75B4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FF028A-B714-4076-A2B8-132F688B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48DB-87E9-4106-A71A-C774AF4B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E5E9EC-C1A8-43DC-B869-FA7CC73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17A6F3-DF26-4996-9992-153AABA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69A73E-9C58-446D-8237-CE906E28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894973-02E6-4D40-89D8-E33804D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5B9FB8-191B-4E30-B495-CBDC5EA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9A4406-670E-4B76-AA0B-8F8D0A1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68AED0-ACCA-4ED8-B93C-BF83B0DF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FB9A3A-15EB-4DDB-A0E2-154D2E8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28B9DE-17A1-4434-9BA7-BE84C9A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A5DE05-CC0C-4F1C-B4ED-0817AB5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0374-8922-4C0F-82E1-8F3E1252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001A4B-737E-43EA-9DA7-56EF670C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739373-051D-42AD-8DBB-9A3F1400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226A8B-C2A2-4D3B-A054-EEBBB1CC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B5FC-3A82-4631-9D20-A073BE1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0E6D-9C61-4B4A-B84F-4E0D77B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67C-C2B4-4E52-870A-CF2BE14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70B6-D655-46F0-B1AF-D676969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0401-60D8-45CF-AD36-BFDA3928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80A6-FED9-42BF-B9CD-A8BE6FB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50E2-1D8B-4925-93BE-29CB7CA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50D6-D5D1-44AD-AB13-5FF8495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DC88-B2A9-4714-8375-6439D45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848C-3BFE-4F1B-BCB7-58108ED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9BA3-7178-4EF9-8C5A-F7FBBFC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DBF9-747D-4F99-A03F-C69E75E9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32AF-D194-486B-ADE9-BFA0470E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F0C-250B-40F2-96F8-F15B42FF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BE578-45FE-4826-8578-7B3CFBA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BB77-A789-4B27-9549-8ECA4AB3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9C3B-532E-4C34-BD35-238F65F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B7429-8355-4E67-B4C4-4CC7A1BD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5CE9-D5A9-4732-9E38-5831A9CE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E440-2D83-4B39-9218-36A91FF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AB21-77FE-4EBA-994E-4899F2A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5E7D-857D-4847-9AB0-98CA0E9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D188-2A0A-46D7-A06D-5525A91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9672-3C00-4C00-90AB-19C2FDAC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7F3-B3CF-4EFE-A008-6DBF007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F984-5DBD-46C6-990A-837C1888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225D-9BDB-4657-A487-52557E33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B2FD-7B1B-41F9-8A36-345F04E3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0976-7781-428E-9DF2-FB4ABAB2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049A-6D02-4E51-A7D5-7662EFE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A85A-7F2F-4BBC-A211-C3B779A5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086B-2DF9-442B-B56F-813B3D86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1A16-60A8-4AB7-A2B0-7E77ACB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8F2FD-DBB3-458B-8CF1-E5110C5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DB06-6769-41A1-B5FC-208369F9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F70-3DB9-4F50-89A1-84EF6B5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EF62-5FDE-4435-ACFA-01384F4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8378-D121-4CDC-8843-359850F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EC58-3DF2-4EA7-A780-6D5F18C4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E113-91A5-4165-8E42-CC9E846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B747-034A-411B-A255-F2511B2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F3B8-0B77-4E68-A38D-F534CD2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99610-25C9-4EBC-A4D0-CD6363D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882F6-9265-4BC5-A1F9-DD5A709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3742-C06D-4EA4-9C0C-1E6B7A50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E578-D79A-40C6-8662-A8B6516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680-9377-4BE4-8C44-338E0F58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E058-C02C-4264-8AEB-98C46DC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ED65D-880A-4298-A9E1-CC830F1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637FB-CBFB-4045-A345-EC9B015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CD22-0FA7-411C-8C0D-F3A9130D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EA96-BE8C-473C-9955-DED4BCCB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F094-F575-4724-BDFE-E33D2DC5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575F-4D2A-46E8-823C-534B95C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622F-4098-4D6F-B744-8B46241B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1D15-E0E9-4331-9584-1016BFE7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D0FE-86F7-412C-8A2A-F57E94C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3FB-7B97-4F51-9E74-E3098D4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42BA-B01E-41F8-B28D-A40666F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4A38-73FA-4C9A-A07B-80182DF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928B5-F66A-4D93-86C0-73C48EA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4895-BABC-4F86-9FFA-2B3FDCC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BC54-C8A5-4BF6-9B8C-C773BD6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5756-44CD-4DAC-AC84-A93AFF3A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63C1-D138-4D38-B00A-253FF661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8C6DB-57B3-4653-9D1C-F3911744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17E99-2CB5-49C1-8E3F-AFAE8DF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1A00B-46B2-46AD-9264-6A0C714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35A-1D47-4152-A038-BBE85E8D3E6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8C4E-2924-4414-8E72-55C42F407D09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41DE-5135-4B8A-B0A0-DB9847B01FA9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1EFC-091A-49B0-923A-3633604AA9E1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461-19A5-4B2F-B5C8-4ED6F1BB00CB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CE45-525F-465E-9EC7-761DD41EB11A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E63A-4E38-4948-9121-B1119CF4BAE6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DFA-2788-4D85-A57C-04BC872104BC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7106-C808-4019-9DE1-94E6FCBBBC5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4EBA-22D4-4372-96A3-8F060E3050BA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C241-47FA-4980-BBFC-CBA532A6DA37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B738-8AF0-4247-AD63-5037B8C87347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2D26-C517-44CC-AE4B-08BDBC319871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541-0B0F-42CF-ABBA-104E88C02E3A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C4F-8287-4852-9F6D-332118861CAD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5040"/>
            <a:ext cx="8544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7240" y="1828440"/>
            <a:ext cx="854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2360" y="6356520"/>
            <a:ext cx="2229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1D8-EBF7-482E-A659-BF064DA0E6D9}" type="slidenum">
              <a:rPr b="0" lang="ru-RU" sz="8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DA3C-D585-4477-998D-FDB5B3B98D80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0FB-BC82-4F0A-BF2B-7999E52795D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27A-B584-49D8-8D37-1355076EA244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DB0-68A3-4FE9-8EBC-7F0EE1BB4FE9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Google Shape;163;p20"/>
          <p:cNvSpPr/>
          <p:nvPr/>
        </p:nvSpPr>
        <p:spPr>
          <a:xfrm>
            <a:off x="0" y="249120"/>
            <a:ext cx="2043000" cy="542880"/>
          </a:xfrm>
          <a:prstGeom prst="roundRect">
            <a:avLst>
              <a:gd name="adj" fmla="val 0"/>
            </a:avLst>
          </a:prstGeom>
          <a:solidFill>
            <a:srgbClr val="0070c0"/>
          </a:solidFill>
          <a:ln w="9360">
            <a:solidFill>
              <a:srgbClr val="1c6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EDU.K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F0E-8A22-45D3-A9E6-098ACEC40B91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48F0-DD80-4137-AE8A-400559D3C98C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F8B7-65C6-4D47-BB6D-98B13853CEB2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2DD-7790-4D85-936A-2FC8AF2B3CC2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2AD7-0632-49E1-BA7F-5BBF203A48B4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396-006F-4EDD-B75E-DA79F3320620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567F-DD2A-41DB-8A0D-AD9130BB363A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C35B-B246-468A-89BB-79FAFE825D06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7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5666-D655-4452-8194-B1A67276BB3E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7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7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6D6D-982B-46E3-AAB8-D9BE83B0162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9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C56-90B6-4615-9E08-7F13E2EECF17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C2B-05E5-47DE-A16E-69797B7901F1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3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945D-A9D3-45CE-91F6-55099D35E96B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6F41-204E-462E-AD8C-40A4774A79B6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57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8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706-E55A-4BF0-A829-C11B67DE8BEE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3216-57D9-48C5-868E-458784557E43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0A83C0DB-FD93-41D8-808C-5E9A224EE6B4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1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48C-06BE-418C-9E52-5D3448FDE6B4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9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D5F-5663-4BD0-B8E6-928ABEE7F7F4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5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9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B907-18CD-4E46-B260-59717B45F380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9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812-E0F5-4C63-BFC3-C5B02B351D5A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FD2-7F84-4860-806D-0C97A73EF9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2B2C-F1EC-4748-8D1E-89929931F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A7E-8DEE-496D-84ED-53117A8D4058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0D9-623B-41B7-8BFD-ADBFB26B9CF7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4E06-3881-4231-81B1-444EB3F4D706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F19-0EA6-44C0-953E-D91B56FF95B0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353-2975-43A4-A137-88B53017B9F4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Прямоугольник 1"/>
          <p:cNvSpPr/>
          <p:nvPr/>
        </p:nvSpPr>
        <p:spPr>
          <a:xfrm>
            <a:off x="0" y="2217600"/>
            <a:ext cx="9906120" cy="2322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Прямоугольник 7"/>
          <p:cNvSpPr/>
          <p:nvPr/>
        </p:nvSpPr>
        <p:spPr>
          <a:xfrm>
            <a:off x="344520" y="311040"/>
            <a:ext cx="9209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Rectangle 6"/>
          <p:cNvSpPr/>
          <p:nvPr/>
        </p:nvSpPr>
        <p:spPr>
          <a:xfrm>
            <a:off x="560520" y="2409840"/>
            <a:ext cx="8678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БЕСПЕЧЕНИЕ ДОСТУПНОСТИ И КАЧЕСТВА ДОШКОЛЬНОГО ВОСПИТАНИЯ И ОБУЧЕНИЯ В ЦЕЛЯХ РЕАЛИЗАЦИИ ЦЕЛИ И ЗАДАЧ ГОСУДАРСТВЕННОЙ ПРОГРАММЫ РАЗВИТИЯ ОБРАЗОВАНИЯ И НАУКИ РЕСПУБЛИКИ КАЗАХСТАН НА 2020</a:t>
            </a:r>
            <a:r>
              <a:rPr b="1" lang="kk-KZ" sz="24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025 ГО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Прямоугольник 14"/>
          <p:cNvSpPr/>
          <p:nvPr/>
        </p:nvSpPr>
        <p:spPr>
          <a:xfrm>
            <a:off x="3624120" y="6273720"/>
            <a:ext cx="2594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г. Нур-Султан, 2020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8" name="Picture 10" descr="C:\Users\Типография\Desktop\МОН РК.png"/>
          <p:cNvPicPr/>
          <p:nvPr/>
        </p:nvPicPr>
        <p:blipFill>
          <a:blip r:embed="rId1"/>
          <a:stretch/>
        </p:blipFill>
        <p:spPr>
          <a:xfrm>
            <a:off x="4330800" y="844560"/>
            <a:ext cx="1198440" cy="1200240"/>
          </a:xfrm>
          <a:prstGeom prst="rect">
            <a:avLst/>
          </a:prstGeom>
          <a:ln w="0">
            <a:noFill/>
          </a:ln>
        </p:spPr>
      </p:pic>
      <p:sp>
        <p:nvSpPr>
          <p:cNvPr id="1299" name="Прямоугольник 1"/>
          <p:cNvSpPr/>
          <p:nvPr/>
        </p:nvSpPr>
        <p:spPr>
          <a:xfrm>
            <a:off x="5345280" y="4767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Андыбаева М.С.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главный эксперт КДСО МОН РК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Прямоугольник 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1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  <p:sp>
        <p:nvSpPr>
          <p:cNvPr id="1302" name="Прямоугольник 8"/>
          <p:cNvSpPr/>
          <p:nvPr/>
        </p:nvSpPr>
        <p:spPr>
          <a:xfrm>
            <a:off x="1103400" y="287280"/>
            <a:ext cx="77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ГОСУДАРСТВЕНН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Я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ПРОГРАММ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РАЗВИТИЯ ОБРАЗОВАНИЯ И НАУКИ РЕСПУБЛИКИ КАЗАХСТАН НА 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 – 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5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ГО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Скругленный прямоугольник 1"/>
          <p:cNvSpPr/>
          <p:nvPr/>
        </p:nvSpPr>
        <p:spPr>
          <a:xfrm>
            <a:off x="844560" y="1085760"/>
            <a:ext cx="8148600" cy="112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Calibri"/>
              </a:rPr>
              <a:t>ЦЕЛЬ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Calibri"/>
              </a:rPr>
              <a:t>Повышение глобальной конкурентоспособности казахстанского образования и науки, воспитание и обучение личности на основе общечеловеческих       ценност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Скругленный прямоугольник 2"/>
          <p:cNvSpPr/>
          <p:nvPr/>
        </p:nvSpPr>
        <p:spPr>
          <a:xfrm>
            <a:off x="844560" y="2362320"/>
            <a:ext cx="8148600" cy="419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. Обеспечить высокий статус профессии педагога, модернизировать педагогическое образовани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. Сократить разрыв в качестве образования между обучающимис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. Обеспечить безопасную и комфортную среду обучени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. Внедрить обновленную систему оценки качества обучающихся, педагогов и организаций образования на основе лучших практи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. Обеспечить преемственность и непрерывность обучения, профессиональной подготовки в соответствии с потребностями экономики и региональными особен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. Обеспечить интеллектуальное, духовно-нравственное и физическое развитие обучающих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. Оснастить организации образования цифровой инфраструктурой и современной материально-технической базой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17440" y="264600"/>
            <a:ext cx="851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ЦЕЛЕВОЙ ИНДИКАТОР 1.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ОХВАТ ДОШКОЛЬНЫМ ВОСПИТАНИЕМ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И ОБУЧЕНИЕМ ДЕТЕЙ (%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Прямоугольник 4"/>
          <p:cNvSpPr/>
          <p:nvPr/>
        </p:nvSpPr>
        <p:spPr>
          <a:xfrm>
            <a:off x="895320" y="2502000"/>
            <a:ext cx="29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 год – 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 год – 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 год – 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 год – 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 год – 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 год – 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 3 до 6 л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-2025 годы  - 1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Прямоугольник 7"/>
          <p:cNvSpPr/>
          <p:nvPr/>
        </p:nvSpPr>
        <p:spPr>
          <a:xfrm>
            <a:off x="4568760" y="2793960"/>
            <a:ext cx="246240" cy="2865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Прямоугольник 11"/>
          <p:cNvSpPr/>
          <p:nvPr/>
        </p:nvSpPr>
        <p:spPr>
          <a:xfrm>
            <a:off x="5308560" y="2657520"/>
            <a:ext cx="246240" cy="300204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Прямоугольник 12"/>
          <p:cNvSpPr/>
          <p:nvPr/>
        </p:nvSpPr>
        <p:spPr>
          <a:xfrm>
            <a:off x="6060960" y="2492280"/>
            <a:ext cx="246240" cy="316728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Прямоугольник 13"/>
          <p:cNvSpPr/>
          <p:nvPr/>
        </p:nvSpPr>
        <p:spPr>
          <a:xfrm>
            <a:off x="6788160" y="2328840"/>
            <a:ext cx="244440" cy="3330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Прямоугольник 14"/>
          <p:cNvSpPr/>
          <p:nvPr/>
        </p:nvSpPr>
        <p:spPr>
          <a:xfrm>
            <a:off x="7512120" y="2165400"/>
            <a:ext cx="245880" cy="349416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Прямоугольник 15"/>
          <p:cNvSpPr/>
          <p:nvPr/>
        </p:nvSpPr>
        <p:spPr>
          <a:xfrm>
            <a:off x="8265960" y="2055960"/>
            <a:ext cx="244800" cy="3603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Прямоугольник 8"/>
          <p:cNvSpPr/>
          <p:nvPr/>
        </p:nvSpPr>
        <p:spPr>
          <a:xfrm>
            <a:off x="4339440" y="5659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Прямоугольник 17"/>
          <p:cNvSpPr/>
          <p:nvPr/>
        </p:nvSpPr>
        <p:spPr>
          <a:xfrm>
            <a:off x="507924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Прямоугольник 18"/>
          <p:cNvSpPr/>
          <p:nvPr/>
        </p:nvSpPr>
        <p:spPr>
          <a:xfrm>
            <a:off x="584280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Прямоугольник 19"/>
          <p:cNvSpPr/>
          <p:nvPr/>
        </p:nvSpPr>
        <p:spPr>
          <a:xfrm>
            <a:off x="658260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Прямоугольник 20"/>
          <p:cNvSpPr/>
          <p:nvPr/>
        </p:nvSpPr>
        <p:spPr>
          <a:xfrm>
            <a:off x="730656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Прямоугольник 21"/>
          <p:cNvSpPr/>
          <p:nvPr/>
        </p:nvSpPr>
        <p:spPr>
          <a:xfrm>
            <a:off x="8044560" y="5626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Прямоугольник 22"/>
          <p:cNvSpPr/>
          <p:nvPr/>
        </p:nvSpPr>
        <p:spPr>
          <a:xfrm>
            <a:off x="4466520" y="2413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Прямоугольник 23"/>
          <p:cNvSpPr/>
          <p:nvPr/>
        </p:nvSpPr>
        <p:spPr>
          <a:xfrm>
            <a:off x="5081040" y="225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Прямоугольник 24"/>
          <p:cNvSpPr/>
          <p:nvPr/>
        </p:nvSpPr>
        <p:spPr>
          <a:xfrm>
            <a:off x="5846400" y="2128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Прямоугольник 25"/>
          <p:cNvSpPr/>
          <p:nvPr/>
        </p:nvSpPr>
        <p:spPr>
          <a:xfrm>
            <a:off x="6584400" y="1913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Прямоугольник 26"/>
          <p:cNvSpPr/>
          <p:nvPr/>
        </p:nvSpPr>
        <p:spPr>
          <a:xfrm>
            <a:off x="7308360" y="1776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Прямоугольник 27"/>
          <p:cNvSpPr/>
          <p:nvPr/>
        </p:nvSpPr>
        <p:spPr>
          <a:xfrm>
            <a:off x="8048160" y="1614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26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Прямая соединительная линия 6"/>
          <p:cNvSpPr/>
          <p:nvPr/>
        </p:nvSpPr>
        <p:spPr>
          <a:xfrm>
            <a:off x="2228760" y="4408560"/>
            <a:ext cx="97020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Прямая соединительная линия 61"/>
          <p:cNvSpPr/>
          <p:nvPr/>
        </p:nvSpPr>
        <p:spPr>
          <a:xfrm>
            <a:off x="3198960" y="4408560"/>
            <a:ext cx="8492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Скругленный прямоугольник 30"/>
          <p:cNvSpPr/>
          <p:nvPr/>
        </p:nvSpPr>
        <p:spPr>
          <a:xfrm>
            <a:off x="3336840" y="1020600"/>
            <a:ext cx="3571920" cy="1892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19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х организаций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06 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84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8 38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876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 4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0" name="Скругленный прямоугольник 31"/>
          <p:cNvSpPr/>
          <p:nvPr/>
        </p:nvSpPr>
        <p:spPr>
          <a:xfrm>
            <a:off x="841320" y="2519280"/>
            <a:ext cx="2746440" cy="1757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26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 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9 02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82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7 99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44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 02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TextBox 32"/>
          <p:cNvSpPr/>
          <p:nvPr/>
        </p:nvSpPr>
        <p:spPr>
          <a:xfrm>
            <a:off x="3083040" y="5448240"/>
            <a:ext cx="3652560" cy="890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6 лет - 78,7%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 лет - 98,5%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лет – 42,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Прямая соединительная линия 33"/>
          <p:cNvSpPr/>
          <p:nvPr/>
        </p:nvSpPr>
        <p:spPr>
          <a:xfrm>
            <a:off x="4898880" y="438624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Прямая соединительная линия 34"/>
          <p:cNvSpPr/>
          <p:nvPr/>
        </p:nvSpPr>
        <p:spPr>
          <a:xfrm>
            <a:off x="4048200" y="440388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Прямая соединительная линия 35"/>
          <p:cNvSpPr/>
          <p:nvPr/>
        </p:nvSpPr>
        <p:spPr>
          <a:xfrm>
            <a:off x="5773680" y="438300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Прямая соединительная линия 36"/>
          <p:cNvSpPr/>
          <p:nvPr/>
        </p:nvSpPr>
        <p:spPr>
          <a:xfrm>
            <a:off x="6624720" y="436104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Прямоугольник 3"/>
          <p:cNvSpPr/>
          <p:nvPr/>
        </p:nvSpPr>
        <p:spPr>
          <a:xfrm>
            <a:off x="478440" y="4883040"/>
            <a:ext cx="89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Segoe UI"/>
                <a:ea typeface="Segoe UI"/>
              </a:rPr>
              <a:t>ОХВАТ ДЕТЕЙ ДОШКОЛЬНЫМ ВОСПИТАНИЕМ И ОБУЧЕНИЕМ СОСТАВЛЯ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7" name="Picture 2" descr=""/>
          <p:cNvPicPr/>
          <p:nvPr/>
        </p:nvPicPr>
        <p:blipFill>
          <a:blip r:embed="rId1"/>
          <a:stretch/>
        </p:blipFill>
        <p:spPr>
          <a:xfrm>
            <a:off x="7292880" y="5235480"/>
            <a:ext cx="1062000" cy="119556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5" descr=""/>
          <p:cNvPicPr/>
          <p:nvPr/>
        </p:nvPicPr>
        <p:blipFill>
          <a:blip r:embed="rId2"/>
          <a:stretch/>
        </p:blipFill>
        <p:spPr>
          <a:xfrm>
            <a:off x="1590840" y="5275440"/>
            <a:ext cx="1179360" cy="1116000"/>
          </a:xfrm>
          <a:prstGeom prst="rect">
            <a:avLst/>
          </a:prstGeom>
          <a:ln w="0">
            <a:noFill/>
          </a:ln>
        </p:spPr>
      </p:pic>
      <p:sp>
        <p:nvSpPr>
          <p:cNvPr id="1339" name="Выгнутая вниз стрелка 8"/>
          <p:cNvSpPr/>
          <p:nvPr/>
        </p:nvSpPr>
        <p:spPr>
          <a:xfrm rot="9328800">
            <a:off x="2277360" y="1464480"/>
            <a:ext cx="987480" cy="731880"/>
          </a:xfrm>
          <a:custGeom>
            <a:avLst/>
            <a:gdLst>
              <a:gd name="textAreaLeft" fmla="*/ 178200 w 987480"/>
              <a:gd name="textAreaRight" fmla="*/ 717840 w 9874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-3265773"/>
                <a:lnTo>
                  <a:pt x="21352" y="5400"/>
                </a:lnTo>
                <a:lnTo>
                  <a:pt x="17598" y="0"/>
                </a:lnTo>
                <a:lnTo>
                  <a:pt x="13348" y="5400"/>
                </a:lnTo>
                <a:lnTo>
                  <a:pt x="15349" y="5400"/>
                </a:lnTo>
                <a:arcTo wR="7799" hR="21600" stAng="2134227" swAng="2937276"/>
                <a:lnTo>
                  <a:pt x="9800" y="20877"/>
                </a:lnTo>
                <a:arcTo wR="7799" hR="21600" stAng="5728497" swAng="5071503"/>
                <a:close/>
              </a:path>
              <a:path fill="darkenLess"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328497"/>
                <a:lnTo>
                  <a:pt x="9800" y="20877"/>
                </a:lnTo>
                <a:arcTo wR="7799" hR="21600" stAng="5728497" swAng="5071503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Выгнутая вправо стрелка 9"/>
          <p:cNvSpPr/>
          <p:nvPr/>
        </p:nvSpPr>
        <p:spPr>
          <a:xfrm rot="18163800">
            <a:off x="7156440" y="1409400"/>
            <a:ext cx="731880" cy="988920"/>
          </a:xfrm>
          <a:custGeom>
            <a:avLst/>
            <a:gdLst>
              <a:gd name="textAreaLeft" fmla="*/ 97920 w 731880"/>
              <a:gd name="textAreaRight" fmla="*/ 633960 w 731880"/>
              <a:gd name="textAreaTop" fmla="*/ 178560 h 988920"/>
              <a:gd name="textAreaBottom" fmla="*/ 71892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3266711"/>
                <a:lnTo>
                  <a:pt x="5400" y="21352"/>
                </a:lnTo>
                <a:lnTo>
                  <a:pt x="0" y="17604"/>
                </a:lnTo>
                <a:lnTo>
                  <a:pt x="5400" y="13360"/>
                </a:lnTo>
                <a:lnTo>
                  <a:pt x="5400" y="15358"/>
                </a:lnTo>
                <a:arcTo wR="21600" hR="7803" stAng="3266711" swAng="-2938752"/>
                <a:lnTo>
                  <a:pt x="20880" y="9801"/>
                </a:lnTo>
                <a:arcTo wR="21600" hR="7803" stAng="-327960" swAng="-5072040"/>
                <a:close/>
              </a:path>
              <a:path fill="darkenLess"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-327960"/>
                <a:lnTo>
                  <a:pt x="20880" y="9801"/>
                </a:lnTo>
                <a:arcTo wR="21600" hR="7803" stAng="-327960" swAng="-5072040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Прямоугольник 1"/>
          <p:cNvSpPr/>
          <p:nvPr/>
        </p:nvSpPr>
        <p:spPr>
          <a:xfrm>
            <a:off x="384120" y="331920"/>
            <a:ext cx="91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Segoe UI"/>
                <a:ea typeface="Segoe UI"/>
              </a:rPr>
              <a:t>В РЕСПУБЛИКЕ ФУНКЦИОНИР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Скругленный прямоугольник 52"/>
          <p:cNvSpPr/>
          <p:nvPr/>
        </p:nvSpPr>
        <p:spPr>
          <a:xfrm>
            <a:off x="6404040" y="2600280"/>
            <a:ext cx="2825640" cy="165096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4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7 78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 014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етских сад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ных мини-центр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44" name="Рисунок 4" descr="Описание: Описание: Описание: F:\курсив.jpg"/>
          <p:cNvPicPr/>
          <p:nvPr/>
        </p:nvPicPr>
        <p:blipFill>
          <a:blip r:embed="rId3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Группа 3"/>
          <p:cNvGrpSpPr/>
          <p:nvPr/>
        </p:nvGrpSpPr>
        <p:grpSpPr>
          <a:xfrm>
            <a:off x="149400" y="1301760"/>
            <a:ext cx="1643040" cy="1460520"/>
            <a:chOff x="149400" y="1301760"/>
            <a:chExt cx="1643040" cy="1460520"/>
          </a:xfrm>
        </p:grpSpPr>
        <p:pic>
          <p:nvPicPr>
            <p:cNvPr id="1346" name="Рисунок 18" descr=""/>
            <p:cNvPicPr/>
            <p:nvPr/>
          </p:nvPicPr>
          <p:blipFill>
            <a:blip r:embed="rId1"/>
            <a:stretch/>
          </p:blipFill>
          <p:spPr>
            <a:xfrm>
              <a:off x="149400" y="1301760"/>
              <a:ext cx="16430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Прямоугольник 19"/>
            <p:cNvSpPr/>
            <p:nvPr/>
          </p:nvSpPr>
          <p:spPr>
            <a:xfrm>
              <a:off x="852840" y="1789200"/>
              <a:ext cx="2408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348" name="Рисунок 6" descr=""/>
          <p:cNvPicPr/>
          <p:nvPr/>
        </p:nvPicPr>
        <p:blipFill>
          <a:blip r:embed="rId2"/>
          <a:srcRect l="3598" t="70380" r="67132" b="2735"/>
          <a:stretch/>
        </p:blipFill>
        <p:spPr>
          <a:xfrm>
            <a:off x="200160" y="4154400"/>
            <a:ext cx="1557360" cy="1428840"/>
          </a:xfrm>
          <a:prstGeom prst="rect">
            <a:avLst/>
          </a:prstGeom>
          <a:ln w="0">
            <a:noFill/>
          </a:ln>
        </p:spPr>
      </p:pic>
      <p:sp>
        <p:nvSpPr>
          <p:cNvPr id="1349" name="Скругленный прямоугольник 21"/>
          <p:cNvSpPr/>
          <p:nvPr/>
        </p:nvSpPr>
        <p:spPr>
          <a:xfrm>
            <a:off x="2044800" y="790560"/>
            <a:ext cx="7497720" cy="625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4 тыс. (88,8%) частных ДО на 320 тыс.детей размещен госзака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Скругленный прямоугольник 22"/>
          <p:cNvSpPr/>
          <p:nvPr/>
        </p:nvSpPr>
        <p:spPr>
          <a:xfrm>
            <a:off x="2044800" y="3684600"/>
            <a:ext cx="7515000" cy="950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дошкольных организациях работаю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97 322 педагогов; из них с высшим образованием - 62 957 чел.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Скругленный прямоугольник 23"/>
          <p:cNvSpPr/>
          <p:nvPr/>
        </p:nvSpPr>
        <p:spPr>
          <a:xfrm>
            <a:off x="2044800" y="1644480"/>
            <a:ext cx="7495920" cy="814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7 августа 2020 года около 125 тыс.детей или 28,1% получили направление в Д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Скругленный прямоугольник 24"/>
          <p:cNvSpPr/>
          <p:nvPr/>
        </p:nvSpPr>
        <p:spPr>
          <a:xfrm>
            <a:off x="2044800" y="2662200"/>
            <a:ext cx="7515000" cy="814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май 2020 года в очереди стоя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коло 444 тыс.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Скругленный прямоугольник 25"/>
          <p:cNvSpPr/>
          <p:nvPr/>
        </p:nvSpPr>
        <p:spPr>
          <a:xfrm>
            <a:off x="2044800" y="4780080"/>
            <a:ext cx="7515000" cy="6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4" name="Прямоугольник 7"/>
          <p:cNvSpPr/>
          <p:nvPr/>
        </p:nvSpPr>
        <p:spPr>
          <a:xfrm>
            <a:off x="2837520" y="2913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Скругленный прямоугольник 27"/>
          <p:cNvSpPr/>
          <p:nvPr/>
        </p:nvSpPr>
        <p:spPr>
          <a:xfrm>
            <a:off x="2044800" y="5680080"/>
            <a:ext cx="7515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общим средним образованием - 2 516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6" name="Рисунок 18" descr=""/>
          <p:cNvPicPr/>
          <p:nvPr/>
        </p:nvPicPr>
        <p:blipFill>
          <a:blip r:embed="rId3"/>
          <a:srcRect l="0" t="0" r="0" b="8714"/>
          <a:stretch/>
        </p:blipFill>
        <p:spPr>
          <a:xfrm>
            <a:off x="297000" y="2762280"/>
            <a:ext cx="1363680" cy="1244520"/>
          </a:xfrm>
          <a:prstGeom prst="rect">
            <a:avLst/>
          </a:prstGeom>
          <a:ln w="0">
            <a:noFill/>
          </a:ln>
        </p:spPr>
      </p:pic>
      <p:sp>
        <p:nvSpPr>
          <p:cNvPr id="1357" name="Прямоугольник 39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8" name="Рисунок 4" descr="Описание: Описание: Описание: F:\курсив.jpg"/>
          <p:cNvPicPr/>
          <p:nvPr/>
        </p:nvPicPr>
        <p:blipFill>
          <a:blip r:embed="rId4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362240" y="274320"/>
            <a:ext cx="73720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СОВЕРШЕНСТВОВАНИЕ НОРМАТИВНЫХ ПРАВОВЫХ АКТОВ СИСТЕМЫ ДОШКОЛЬНОГО ВОСПИТАНИЯ И ОБУЧЕНИЯ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Скругленный прямоугольник 1"/>
          <p:cNvSpPr/>
          <p:nvPr/>
        </p:nvSpPr>
        <p:spPr>
          <a:xfrm>
            <a:off x="1000080" y="1114560"/>
            <a:ext cx="7904160" cy="80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общеобязательный стандарт дошкольного воспитания и обучения (приказ МОН РК от 5 мая 2020 года № 18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Скругленный прямоугольник 6"/>
          <p:cNvSpPr/>
          <p:nvPr/>
        </p:nvSpPr>
        <p:spPr>
          <a:xfrm>
            <a:off x="1000080" y="2027160"/>
            <a:ext cx="7904160" cy="7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учебные планы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2 мая 2020 года № 195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Скругленный прямоугольник 7"/>
          <p:cNvSpPr/>
          <p:nvPr/>
        </p:nvSpPr>
        <p:spPr>
          <a:xfrm>
            <a:off x="1000080" y="3828960"/>
            <a:ext cx="7904160" cy="798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ая учебная программа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 6 марта 2020 года № 9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Скругленный прямоугольник 8"/>
          <p:cNvSpPr/>
          <p:nvPr/>
        </p:nvSpPr>
        <p:spPr>
          <a:xfrm>
            <a:off x="1000080" y="2887560"/>
            <a:ext cx="790416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правила деятельности дошкольных организац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8 мая 2020 года № 207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Скругленный прямоугольник 9"/>
          <p:cNvSpPr/>
          <p:nvPr/>
        </p:nvSpPr>
        <p:spPr>
          <a:xfrm>
            <a:off x="1000080" y="4727520"/>
            <a:ext cx="7904160" cy="905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ой договор оказания образовательных услуг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дошкольных организац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5 апреля 2020 года № 14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Скругленный прямоугольник 10"/>
          <p:cNvSpPr/>
          <p:nvPr/>
        </p:nvSpPr>
        <p:spPr>
          <a:xfrm>
            <a:off x="1000080" y="5742000"/>
            <a:ext cx="7904160" cy="766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а оказания государственных услуг в сфере дошкольного образования (приказ МОН РК от 19 июня 2020 года № 25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Прямоугольник 14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7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Прямоугольник 24"/>
          <p:cNvSpPr/>
          <p:nvPr/>
        </p:nvSpPr>
        <p:spPr>
          <a:xfrm>
            <a:off x="1109520" y="156852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Прямоугольник 1"/>
          <p:cNvSpPr/>
          <p:nvPr/>
        </p:nvSpPr>
        <p:spPr>
          <a:xfrm>
            <a:off x="3267360" y="33984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РАЗРАБОТ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Скругленный прямоугольник 2"/>
          <p:cNvSpPr/>
          <p:nvPr/>
        </p:nvSpPr>
        <p:spPr>
          <a:xfrm>
            <a:off x="1173240" y="1476360"/>
            <a:ext cx="7667640" cy="197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ие рекомендации «Введение института домашних воспитателей (социальных нянь), в том числе в штатных расписаниях дошкольных организаций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Скругленный прямоугольник 7"/>
          <p:cNvSpPr/>
          <p:nvPr/>
        </p:nvSpPr>
        <p:spPr>
          <a:xfrm>
            <a:off x="1201680" y="3886200"/>
            <a:ext cx="7667640" cy="20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комендации по созданию групп кратковременного пребывания при дошкольных организациях для обучения и воспитания детей 1-2 лет из малообеспеченных и многодетных семей, семей, воспитывающих детей-инвалид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Прямоугольник 10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73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Прямоугольник 24"/>
          <p:cNvSpPr/>
          <p:nvPr/>
        </p:nvSpPr>
        <p:spPr>
          <a:xfrm>
            <a:off x="808200" y="221472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Прямоугольник 1"/>
          <p:cNvSpPr/>
          <p:nvPr/>
        </p:nvSpPr>
        <p:spPr>
          <a:xfrm>
            <a:off x="2942640" y="68724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ЗАПЛАНИРОВА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Скругленный прямоугольник 2"/>
          <p:cNvSpPr/>
          <p:nvPr/>
        </p:nvSpPr>
        <p:spPr>
          <a:xfrm>
            <a:off x="1393920" y="1716120"/>
            <a:ext cx="7134120" cy="13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ВЕДЕНИЕ ИНСТИТУТА ДОМАШНИХ ВОСПИТАТЕЛЕЙ (СОЦИАЛЬНЫХ НЯН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Скругленный прямоугольник 7"/>
          <p:cNvSpPr/>
          <p:nvPr/>
        </p:nvSpPr>
        <p:spPr>
          <a:xfrm>
            <a:off x="1389240" y="3260880"/>
            <a:ext cx="7134120" cy="1112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НЕДРЕНИЕ ЛИЦЕНЗИРОВАНИЯ ДОШКОЛЬНЫХ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8" name="Скругленный прямоугольник 8"/>
          <p:cNvSpPr/>
          <p:nvPr/>
        </p:nvSpPr>
        <p:spPr>
          <a:xfrm>
            <a:off x="1401840" y="4600440"/>
            <a:ext cx="7134120" cy="132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РАБОТКА И ВНЕДРЕНИЕ РЕЙТИНГА ОЦЕНКИ ДОШКОЛЬНЫХ ОРГАНИЗАЦИЙ С ВКЛЮЧЕНИЕ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ЕГО РОДИТЕЛЬСКОЙ ОЦЕН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Прямоугольник 11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0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8:49:26Z</dcterms:created>
  <dc:creator>Arman Kalibekuly</dc:creator>
  <dc:description/>
  <dc:language>en-US</dc:language>
  <cp:lastModifiedBy>алма</cp:lastModifiedBy>
  <cp:lastPrinted>2019-08-19T08:28:58Z</cp:lastPrinted>
  <dcterms:modified xsi:type="dcterms:W3CDTF">2020-08-13T06:15:33Z</dcterms:modified>
  <cp:revision>550</cp:revision>
  <dc:subject/>
  <dc:title>Республиканский  учебно-методический центр дополнительного образования</dc:title>
</cp:coreProperties>
</file>